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7784-65D2-43C9-BFC9-3DA18E5A71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A637-3860-4847-85C7-45CCE7557A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4BA20-C880-4F79-9A45-3AB217564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BB281-831C-42FE-9372-B875C210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53008-D104-4680-9109-4B11F902E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50E4F-30A2-4308-B6C7-8A9CA5086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3AB9B-15BD-4201-A394-CA6AE739C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48698-ABED-4992-9705-B075E1212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F9C1-D711-4FF5-9691-5BC47241E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9AAA4-9F38-420D-8834-45E6BC125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AEF21-0AE6-4D04-AAE7-98848A395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8ED9-91CD-4DEA-8206-6997E810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9751-541C-4A72-BC07-58477D1B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07A4-9868-494B-AEB7-C8D2BC2A4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F77A-8B82-426A-A84A-20673FDD97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2305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They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difference between these charters was where the authority within the community was granted. In a proprietary or corporate charters is was granted to landowners or a corporation. In a royal charter, the monarch ruled directly ove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British monarch accumulated power, most colonial charters would revert to royal charters. </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outlines four different types of constitutions based on the procedures for establishing them in their respectiv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Constitutions framed by purely legislative bodies which had no express authority from the people to write a constitution and never submitted their handiwork to the people for approval. These were the constitutions of New Jersey, Virginia, and South Carolina, all of which were adopted in 1776. South Carolina adopted a second constitution in 177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Constitutions framed by purely legislative bodies, but with express authority conferred upon them for this purpose by the people—without submission to the people for approval, however. These were the constitutions of New Hampshire, Delaware, Georgia, New York, and Vermo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Constitutions framed by purely legislative bodies but with express authority conferred upon them for this purpose by the people and formal or informal submission of the constitution to the people—Maryland, Pennsylvania, North Carolina, South Carolina (1778), and Massachusetts (1778). Among these, only Massachusetts </a:t>
            </a:r>
            <a:r>
              <a:rPr b="0" i="1" lang="en-US" sz="3600" spc="-1" strike="noStrike">
                <a:solidFill>
                  <a:srgbClr val="000000"/>
                </a:solidFill>
                <a:latin typeface="Calibri"/>
              </a:rPr>
              <a:t>formally</a:t>
            </a:r>
            <a:r>
              <a:rPr b="0" lang="en-US" sz="3600" spc="-1" strike="noStrike">
                <a:solidFill>
                  <a:srgbClr val="000000"/>
                </a:solidFill>
                <a:latin typeface="Calibri"/>
              </a:rPr>
              <a:t> submitted its constitution to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The framing of a constitution by a </a:t>
            </a:r>
            <a:r>
              <a:rPr b="0" i="1" lang="en-US" sz="3600" spc="-1" strike="noStrike">
                <a:solidFill>
                  <a:srgbClr val="000000"/>
                </a:solidFill>
                <a:latin typeface="Calibri"/>
              </a:rPr>
              <a:t>convention</a:t>
            </a:r>
            <a:r>
              <a:rPr b="0" lang="en-US" sz="3600" spc="-1" strike="noStrike">
                <a:solidFill>
                  <a:srgbClr val="000000"/>
                </a:solidFill>
                <a:latin typeface="Calibri"/>
              </a:rPr>
              <a:t> chosen for this purpose only, with the subsequent submission of the Constitution to the people for approval. These were the States of Massachusetts (1779–1780) and New Hampshire (1779–1783) in their second attempts at establishing an acceptable fundamental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separate decisions were made having to do with the powers of governing institutions and the rights of individuals.</a:t>
            </a:r>
            <a:br>
              <a:rPr sz="4000"/>
            </a:br>
            <a:br>
              <a:rPr sz="4000"/>
            </a:br>
            <a:r>
              <a:rPr b="0" lang="en-US" sz="4000" spc="-1" strike="noStrike">
                <a:solidFill>
                  <a:srgbClr val="000000"/>
                </a:solidFill>
                <a:latin typeface="Calibri"/>
              </a:rPr>
              <a:t>For example, here’s online background on how each state determined what relationship they would allow between church and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points out three weaknesses of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they all failed to provide for an adequate system of separation of powers. Most of them established three separate and distinct branches of government, with no overlapping personnel; but the men who drafted them thought in terms of a “pure” separation and did not understand the need for checks and balan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all of these first constitutions, with the exception of New York’s, failed to establish an independent executive. In most cases, governors were appointed by and answerable to the legislatures, and their powers were severely restricted. Even those governors who enjoyed a semblance of authority found it difficult to protect their office because they lacked sufficient means by which to check legislative encroach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all of these first constitutions lacked a provision establishing the constitution as the supreme law. One factor contributing greatly to the problem of legislative supremacy in the period between 1776 and 1787 was the common assumption that legislators were the sole judges of their own constitutional powers. Too few lawyers of the day believed that a State court had the right to declare a statute invalid on the ground that it violated the Stat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after independence that new states would be formed by American settlers who were quickly heading w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rthwest Ordinance allowed the creation of new states out of territories once they reached a population of 60,000. It determined how the territories were to be governed until each was granted statehood and they were allowed to create their own constitutions. The Enabling Act of 1802 established the ground rules by which those early states were establish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the Northwest Ordinance served as a constitution for the new territories until states were formed and residents were authorized to create their 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did the following: </a:t>
            </a:r>
            <a:br>
              <a:rPr sz="3600"/>
            </a:br>
            <a:br>
              <a:rPr sz="3600"/>
            </a:br>
            <a:r>
              <a:rPr b="0" lang="en-US" sz="3600" spc="-1" strike="noStrike">
                <a:solidFill>
                  <a:srgbClr val="000000"/>
                </a:solidFill>
                <a:latin typeface="Calibri"/>
              </a:rPr>
              <a:t>- Relinquished the claims other states had over the territory.</a:t>
            </a:r>
            <a:br>
              <a:rPr sz="3600"/>
            </a:br>
            <a:r>
              <a:rPr b="0" lang="en-US" sz="3600" spc="-1" strike="noStrike">
                <a:solidFill>
                  <a:srgbClr val="000000"/>
                </a:solidFill>
                <a:latin typeface="Calibri"/>
              </a:rPr>
              <a:t>- Mandated the creation of new states.</a:t>
            </a:r>
            <a:br>
              <a:rPr sz="3600"/>
            </a:br>
            <a:r>
              <a:rPr b="0" lang="en-US" sz="3600" spc="-1" strike="noStrike">
                <a:solidFill>
                  <a:srgbClr val="000000"/>
                </a:solidFill>
                <a:latin typeface="Calibri"/>
              </a:rPr>
              <a:t>- Established governments in the new territories.</a:t>
            </a:r>
            <a:br>
              <a:rPr sz="3600"/>
            </a:br>
            <a:r>
              <a:rPr b="0" lang="en-US" sz="3600" spc="-1" strike="noStrike">
                <a:solidFill>
                  <a:srgbClr val="000000"/>
                </a:solidFill>
                <a:latin typeface="Calibri"/>
              </a:rPr>
              <a:t>- Guaranteed rights to the residents of the territories.</a:t>
            </a:r>
            <a:br>
              <a:rPr sz="3600"/>
            </a:br>
            <a:r>
              <a:rPr b="0" lang="en-US" sz="3600" spc="-1" strike="noStrike">
                <a:solidFill>
                  <a:srgbClr val="000000"/>
                </a:solidFill>
                <a:latin typeface="Calibri"/>
              </a:rPr>
              <a:t>- Prohibited slavery and indentured servitude in th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also made allowances for new states in Article 4, Section 3. It did so by guaranteeing that the borders of the new states would not interfere with those of existing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detail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br>
              <a:rPr sz="4400"/>
            </a:br>
            <a:br>
              <a:rPr sz="4400"/>
            </a:br>
            <a:r>
              <a:rPr b="0" lang="en-US" sz="4400" spc="-1" strike="noStrike">
                <a:solidFill>
                  <a:srgbClr val="000000"/>
                </a:solidFill>
                <a:latin typeface="Calibri"/>
              </a:rPr>
              <a:t>It has had five constitutions since stateh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 As stated before, its has been heavily amended. 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For background on the amendments click here: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2-08-18T17:36:51Z</dcterms:modified>
  <cp:revision>135</cp:revision>
  <dc:subject/>
  <dc:title>The Texas Constitution</dc:title>
</cp:coreProperties>
</file>